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3C7-71CD-42C9-9DC2-61FF9B93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0E7-6925-4B42-A2CD-FA346B93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B92-B685-4910-84F3-46002E52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92B-D4E6-4B16-B1A8-0448EA0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6145-6D9D-499A-80D0-94A50D67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F0A9D-925E-4D24-B1FF-C8BEBE3D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4031F-81A7-496B-9D66-F5548932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068B-B04C-4AF2-A330-52C5EF0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7C4E7-33A0-4839-A584-B077C6D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668A-44FC-447F-978E-AA09CD9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6E8D9-FBEE-4706-BAB8-31827A6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A51-DE83-4B75-BF06-37531EF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C7D5-743E-4350-BA43-0382818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4F78-8E59-411D-9647-D313E39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D1864-9C2B-4CF9-988C-967C63FB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E888-ACAF-4349-8207-66F4C356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164C1-4BE9-48D1-A5FA-C0087C3F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F14-DD3A-4AC9-A7BE-49F1971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ECD-A691-4659-860B-08D53495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069-EA10-4162-98B4-074BF331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613-6CB9-4103-8009-C5B583BE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D71-0CE5-4D29-9E55-CE4FBA0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D3F-B384-459B-A621-B201459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0D2-1463-4DDB-BE31-D0EB19E5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0041-DF3E-4B0E-AD43-26438C06A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ED82-A086-479A-B6C1-CBBF0A3AF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virgini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81080" y="685800"/>
            <a:ext cx="5105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irginia</a:t>
            </a:r>
            <a:endParaRPr b="0" lang="en-US" sz="1800" spc="1" strike="noStrike">
              <a:ln w="324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1814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. #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505320" cy="1522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195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: Rich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Population: 7,567,4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Entered/Number: June 25 1788 #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: Sic Semper Tyrannis (Thus always to tyr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The old diamo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Bird: Card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Flower: American Dog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Song: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0" y="3124080"/>
            <a:ext cx="1955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irginia: Map and State Flag"/>
          <p:cNvPicPr/>
          <p:nvPr/>
        </p:nvPicPr>
        <p:blipFill>
          <a:blip r:embed="rId1"/>
          <a:srcRect l="15093" t="0" r="16989" b="62179"/>
          <a:stretch/>
        </p:blipFill>
        <p:spPr>
          <a:xfrm>
            <a:off x="990720" y="304920"/>
            <a:ext cx="274320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Virginia: Map and State Flag"/>
          <p:cNvPicPr/>
          <p:nvPr/>
        </p:nvPicPr>
        <p:blipFill>
          <a:blip r:embed="rId2"/>
          <a:srcRect l="0" t="41463" r="0" b="0"/>
          <a:stretch/>
        </p:blipFill>
        <p:spPr>
          <a:xfrm>
            <a:off x="4267080" y="228600"/>
            <a:ext cx="449604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2438280"/>
            <a:ext cx="7391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Virginia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 Sept.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ff"/>
                </a:solidFill>
                <a:uFillTx/>
                <a:latin typeface="Arial"/>
                <a:hlinkClick r:id="rId3"/>
              </a:rPr>
              <a:t>http://bensguide.gpo.gov/3-5/state/virgini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276360" cy="272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193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2971800" cy="184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335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2:00Z</dcterms:created>
  <dc:creator>install</dc:creator>
  <dc:description/>
  <dc:language>en-US</dc:language>
  <cp:lastModifiedBy>install</cp:lastModifiedBy>
  <dcterms:modified xsi:type="dcterms:W3CDTF">2010-10-14T13:38:21Z</dcterms:modified>
  <cp:revision>11</cp:revision>
  <dc:subject/>
  <dc:title>Slide 1</dc:title>
</cp:coreProperties>
</file>